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6.jpeg" ContentType="image/jpeg"/>
  <Override PartName="/ppt/media/image15.png" ContentType="image/png"/>
  <Override PartName="/ppt/media/image14.wmf" ContentType="image/x-wmf"/>
  <Override PartName="/ppt/media/image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EE47B-3E8C-4626-AC4F-4D9EA51AF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79605-6A5F-40F0-AF57-7140CDB55D9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Mendel allowed the F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plants to reproduce by self-pollination, the traits controlled by recessive alleles reappeared in about one fourth of the F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plants in each cros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2A00-9100-4A02-8987-0E4E6FF35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2402-746A-4DE9-B8B7-9AAE08329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6136-685B-4C20-A31A-688A535DB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7F65-00CC-40EC-9D61-4FCC73D13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DE3A9-4130-4441-9F6F-964627F62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7E179-079C-4B4F-B10D-0D520EFDC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2E7EE-EA64-415D-8A4F-9368D1F65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38EF6-1C1E-4701-92E4-7BC60F954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1151A-1FF4-4298-8EAD-A72A306DA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1469E-2857-4785-8F24-DE66D51EA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9AE40-969B-43CC-9713-34C23C1A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208F-6158-46A0-AEC4-FF909892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15F05-F359-4286-B3DD-12422090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922DD-21C4-45FE-846F-2256708B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EC09B-27BA-41CF-8135-6A0B9AB74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FBF8A-A96F-4F41-93F5-B85FD4AC4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A86C5-FE19-4E94-9257-448B425C4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FC908-5268-409D-A515-DB1BDF914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C2BD8-82B2-406A-BBAC-43D79881A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D1DF4-842B-4A7A-91A1-D128DF27E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7208B-D9E6-4C44-B8A0-D29EAF075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67449-5976-454A-B6CE-7662FB284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589F-979E-4976-9847-DECAB9CBD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B16CB-B382-4E6B-A22E-3C0EA0550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EDB57-F4BC-4F80-891C-EE26DD90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F33E6-1B1D-41CD-8079-2E19E22F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66F65-9F82-45DA-88B5-DBAE6C60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FAD09-0357-477D-9509-4CC2B72D6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BD428-13F1-48E7-B624-BBAA6B8D0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65010-D7CD-48AF-A4A1-0B4582EF0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A49A3-2A04-4718-BF4B-D3EE1C2B6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94761-441D-49F3-97BA-60066E0FE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1E675-BA1D-4F3D-AB1E-256709AB6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CCF5-01C0-4364-A9E2-A12CE130E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576CE-94B0-4B02-968B-F4F159DE0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413A5-A58E-412A-B86D-CF570650D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E4A74-3686-469B-B8A5-5F0E5BD21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D78EF-1D21-4127-ABAC-E641170C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C647A-E784-41FD-89D3-1D9A6913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5FE5D-BD8F-45A2-AAEA-127B1A40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895F7-B1B8-4953-85B4-6ADECE0C9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6BBC4-73AC-4CDC-BEBD-72A34255C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D9804-E260-4492-8482-F287229B7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6C8ED-34C1-4307-B447-485BD63C1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8039-B98F-4181-9029-55B112AEC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89B9E-D834-4ACD-9E91-151C035CA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560D1-437E-4CCF-AAFB-415F608B5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32376-4BD6-4766-AD7B-6FE17AE11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9EEA5-F36B-4548-B074-5FBD73B33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ED0A9-F1FD-4AFA-9EC6-D72A17B23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F3AD9-BF1B-4545-BFEA-65A086A7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1BDA4-441F-49A3-B250-E4D6FAC3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A6ABB-7ADC-40AF-AE9A-79979FDD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90C37-8EFE-44B0-80E5-F7E58A044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0779B-CB91-4B6F-97B9-0E5EC21E3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45F5-725E-42F0-91F0-E118E11CB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2B999-5DAD-4F23-83BA-79D857AF8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136E6-8301-47C9-9137-0F9AC27E8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02D0BC-AFE0-411A-8D21-707548D65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D3C0C-A8D5-4B5A-ABE7-CC5A17EAC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7815E8-089A-4C94-9B2F-351D3AF89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D641D-7B67-4241-B200-0AC72C5AA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E01C3-B3CE-403B-B3A6-58D794E74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E34AB3-6A37-45A0-A2AE-215FC502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6D6B1-41AE-4297-AFA3-FB79C9F5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85AEE-0529-4CBC-A8DA-2EA604AE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A836-DC43-4311-8BAD-6B70442D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2F7EF-4545-43BB-BB3B-F4B03A3BA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47A8D-77B6-4599-B2F0-A89FA3777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0177A-30A9-421E-B67C-864D4AEDA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D7A6C9-4DD7-442C-9EB2-B62D36534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5298D-9306-4857-B9E4-748ABEAAF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58BF6-1613-4B43-A45B-14A4849BB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11E92C-43F2-4CD1-B45F-CED5557EA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73A27-4560-4530-B133-E0A0EA378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055CF-FAF3-44C1-AFBD-7C74F3D27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33C91-64E3-452F-BDDE-5CF357AF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CC2C-4730-4976-9349-8F685784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9BED8-5F55-4317-ADE3-6D0FC86F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0BC14-DC88-4DF6-B75A-56F946CE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922F0E-CC19-4069-A740-4A64060A9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139E03-3C33-4F3D-806C-93C7A6200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BF09A4-B0D9-4C4A-85B5-CFECC411D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10CC30-8EF9-42C9-AB38-641CDCD95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3B6B0A-7C86-4DD8-9653-E1FBBBC34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5A74C2-31EA-4A80-9AAF-1213A3520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4EEB1F-FE77-4188-B811-5896D9230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A7F618-1FEF-49B7-8DC9-7C6972321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C321-3D6F-4EC3-B16F-18263179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1DA733-4CFB-4121-807C-5C5144485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45D0B9-0855-47F3-B7A8-5959300E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A67340-0EE6-4B5D-8F58-43EFF001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697E7C-D4D4-4B54-9256-87347A65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2ED89E-BE41-4B73-9B2D-7F70A08DE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793970-5391-4648-A9DF-86DFFD9F4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733E1D-3F11-42E5-AFFA-4B0170DFB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3C2D-6586-4FA1-A996-1AAB2510C08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6073E-DDCC-47B0-978C-8B5B10A5A120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13877-4983-45FC-90E0-72CFCF1F60C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CA405-4DCB-4B99-9EA3-E45C882C349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3B657-4D6E-4E1C-902C-7092EA6AC0AA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74730-95B3-434A-B760-28E396D6767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8D85D-0C1B-4F63-93DD-5191E76812D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118B7-9859-4727-A3A5-538131038613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79" name="Picture 2" descr=""/>
          <p:cNvPicPr/>
          <p:nvPr/>
        </p:nvPicPr>
        <p:blipFill>
          <a:blip r:embed="rId2"/>
          <a:stretch/>
        </p:blipFill>
        <p:spPr>
          <a:xfrm>
            <a:off x="762120" y="457200"/>
            <a:ext cx="1838160" cy="24861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3" descr=""/>
          <p:cNvPicPr/>
          <p:nvPr/>
        </p:nvPicPr>
        <p:blipFill>
          <a:blip r:embed="rId3"/>
          <a:stretch/>
        </p:blipFill>
        <p:spPr>
          <a:xfrm>
            <a:off x="6705720" y="304920"/>
            <a:ext cx="19047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533520"/>
            <a:ext cx="822960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principle of dominance states that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ome alleles are dominant and others are recessiv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 organism with a dominant allele or trait will always exhibit that for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 organism with the recessive allele will exhibit that form only when the dominant allele is not pres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ndel crossed the F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generation with itself to produce the F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(second filial) gener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traits controlled by recessive alleles reappeared in one fourth of the F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pla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Copyright Pearson Prentice H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ndel's F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Gener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Picture 4" descr="sb4058f1"/>
          <p:cNvPicPr/>
          <p:nvPr/>
        </p:nvPicPr>
        <p:blipFill>
          <a:blip r:embed="rId1"/>
          <a:stretch/>
        </p:blipFill>
        <p:spPr>
          <a:xfrm>
            <a:off x="282600" y="1838160"/>
            <a:ext cx="8407440" cy="372132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25"/>
          <p:cNvSpPr/>
          <p:nvPr/>
        </p:nvSpPr>
        <p:spPr>
          <a:xfrm>
            <a:off x="762120" y="5308560"/>
            <a:ext cx="7670520" cy="41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5"/>
          <p:cNvSpPr/>
          <p:nvPr/>
        </p:nvSpPr>
        <p:spPr>
          <a:xfrm>
            <a:off x="773280" y="1920960"/>
            <a:ext cx="1333440" cy="3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6"/>
          <p:cNvSpPr/>
          <p:nvPr/>
        </p:nvSpPr>
        <p:spPr>
          <a:xfrm>
            <a:off x="2917800" y="1811160"/>
            <a:ext cx="156672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8"/>
          <p:cNvSpPr/>
          <p:nvPr/>
        </p:nvSpPr>
        <p:spPr>
          <a:xfrm>
            <a:off x="641520" y="5356080"/>
            <a:ext cx="81108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9"/>
          <p:cNvSpPr/>
          <p:nvPr/>
        </p:nvSpPr>
        <p:spPr>
          <a:xfrm>
            <a:off x="2751120" y="5334120"/>
            <a:ext cx="830160" cy="32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0"/>
          <p:cNvSpPr/>
          <p:nvPr/>
        </p:nvSpPr>
        <p:spPr>
          <a:xfrm>
            <a:off x="3646440" y="5369040"/>
            <a:ext cx="81144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1"/>
          <p:cNvSpPr/>
          <p:nvPr/>
        </p:nvSpPr>
        <p:spPr>
          <a:xfrm>
            <a:off x="4923000" y="5330880"/>
            <a:ext cx="8492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2"/>
          <p:cNvSpPr/>
          <p:nvPr/>
        </p:nvSpPr>
        <p:spPr>
          <a:xfrm>
            <a:off x="5842080" y="5311800"/>
            <a:ext cx="88740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13"/>
          <p:cNvSpPr/>
          <p:nvPr/>
        </p:nvSpPr>
        <p:spPr>
          <a:xfrm>
            <a:off x="6751800" y="5311800"/>
            <a:ext cx="83016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4"/>
          <p:cNvSpPr/>
          <p:nvPr/>
        </p:nvSpPr>
        <p:spPr>
          <a:xfrm>
            <a:off x="1571760" y="5369040"/>
            <a:ext cx="81108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5"/>
          <p:cNvSpPr/>
          <p:nvPr/>
        </p:nvSpPr>
        <p:spPr>
          <a:xfrm>
            <a:off x="7629480" y="5343480"/>
            <a:ext cx="81108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eform 23"/>
          <p:cNvSpPr/>
          <p:nvPr/>
        </p:nvSpPr>
        <p:spPr>
          <a:xfrm>
            <a:off x="2057400" y="1752480"/>
            <a:ext cx="2684520" cy="3090960"/>
          </a:xfrm>
          <a:custGeom>
            <a:avLst/>
            <a:gdLst>
              <a:gd name="textAreaLeft" fmla="*/ 0 w 2684520"/>
              <a:gd name="textAreaRight" fmla="*/ 2684880 w 2684520"/>
              <a:gd name="textAreaTop" fmla="*/ 0 h 3090960"/>
              <a:gd name="textAreaBottom" fmla="*/ 3091320 h 3090960"/>
            </a:gdLst>
            <a:ahLst/>
            <a:rect l="textAreaLeft" t="textAreaTop" r="textAreaRight" b="textAreaBottom"/>
            <a:pathLst>
              <a:path w="1637" h="1947">
                <a:moveTo>
                  <a:pt x="558" y="82"/>
                </a:moveTo>
                <a:lnTo>
                  <a:pt x="384" y="283"/>
                </a:lnTo>
                <a:lnTo>
                  <a:pt x="348" y="521"/>
                </a:lnTo>
                <a:lnTo>
                  <a:pt x="266" y="951"/>
                </a:lnTo>
                <a:lnTo>
                  <a:pt x="183" y="1344"/>
                </a:lnTo>
                <a:lnTo>
                  <a:pt x="128" y="1481"/>
                </a:lnTo>
                <a:lnTo>
                  <a:pt x="0" y="1481"/>
                </a:lnTo>
                <a:lnTo>
                  <a:pt x="92" y="1573"/>
                </a:lnTo>
                <a:lnTo>
                  <a:pt x="238" y="1582"/>
                </a:lnTo>
                <a:lnTo>
                  <a:pt x="320" y="1719"/>
                </a:lnTo>
                <a:lnTo>
                  <a:pt x="394" y="1774"/>
                </a:lnTo>
                <a:lnTo>
                  <a:pt x="384" y="1883"/>
                </a:lnTo>
                <a:lnTo>
                  <a:pt x="494" y="1920"/>
                </a:lnTo>
                <a:lnTo>
                  <a:pt x="650" y="1938"/>
                </a:lnTo>
                <a:lnTo>
                  <a:pt x="851" y="1938"/>
                </a:lnTo>
                <a:lnTo>
                  <a:pt x="997" y="1947"/>
                </a:lnTo>
                <a:lnTo>
                  <a:pt x="1143" y="1938"/>
                </a:lnTo>
                <a:lnTo>
                  <a:pt x="1235" y="1947"/>
                </a:lnTo>
                <a:lnTo>
                  <a:pt x="1299" y="1947"/>
                </a:lnTo>
                <a:lnTo>
                  <a:pt x="1372" y="1947"/>
                </a:lnTo>
                <a:lnTo>
                  <a:pt x="1454" y="1902"/>
                </a:lnTo>
                <a:lnTo>
                  <a:pt x="1573" y="1893"/>
                </a:lnTo>
                <a:lnTo>
                  <a:pt x="1573" y="1765"/>
                </a:lnTo>
                <a:lnTo>
                  <a:pt x="1509" y="1627"/>
                </a:lnTo>
                <a:lnTo>
                  <a:pt x="1500" y="1554"/>
                </a:lnTo>
                <a:lnTo>
                  <a:pt x="1463" y="1499"/>
                </a:lnTo>
                <a:lnTo>
                  <a:pt x="1463" y="1399"/>
                </a:lnTo>
                <a:lnTo>
                  <a:pt x="1518" y="1289"/>
                </a:lnTo>
                <a:lnTo>
                  <a:pt x="1564" y="1125"/>
                </a:lnTo>
                <a:lnTo>
                  <a:pt x="1509" y="677"/>
                </a:lnTo>
                <a:lnTo>
                  <a:pt x="1573" y="338"/>
                </a:lnTo>
                <a:lnTo>
                  <a:pt x="1637" y="82"/>
                </a:lnTo>
                <a:lnTo>
                  <a:pt x="1107" y="0"/>
                </a:lnTo>
                <a:lnTo>
                  <a:pt x="558" y="8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eform 26"/>
          <p:cNvSpPr/>
          <p:nvPr/>
        </p:nvSpPr>
        <p:spPr>
          <a:xfrm>
            <a:off x="5892840" y="1892160"/>
            <a:ext cx="1485720" cy="304920"/>
          </a:xfrm>
          <a:custGeom>
            <a:avLst/>
            <a:gdLst>
              <a:gd name="textAreaLeft" fmla="*/ 0 w 1485720"/>
              <a:gd name="textAreaRight" fmla="*/ 1486080 w 14857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920" h="184">
                <a:moveTo>
                  <a:pt x="56" y="0"/>
                </a:moveTo>
                <a:lnTo>
                  <a:pt x="920" y="24"/>
                </a:lnTo>
                <a:lnTo>
                  <a:pt x="832" y="152"/>
                </a:lnTo>
                <a:lnTo>
                  <a:pt x="520" y="184"/>
                </a:lnTo>
                <a:lnTo>
                  <a:pt x="104" y="184"/>
                </a:lnTo>
                <a:lnTo>
                  <a:pt x="0" y="104"/>
                </a:lnTo>
                <a:lnTo>
                  <a:pt x="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7"/>
          <p:cNvSpPr/>
          <p:nvPr/>
        </p:nvSpPr>
        <p:spPr>
          <a:xfrm>
            <a:off x="5800680" y="1776240"/>
            <a:ext cx="152244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reeform 24"/>
          <p:cNvSpPr/>
          <p:nvPr/>
        </p:nvSpPr>
        <p:spPr>
          <a:xfrm>
            <a:off x="4395960" y="1490760"/>
            <a:ext cx="4238280" cy="3286080"/>
          </a:xfrm>
          <a:custGeom>
            <a:avLst/>
            <a:gdLst>
              <a:gd name="textAreaLeft" fmla="*/ 0 w 4238280"/>
              <a:gd name="textAreaRight" fmla="*/ 4238640 w 4238280"/>
              <a:gd name="textAreaTop" fmla="*/ 0 h 3286080"/>
              <a:gd name="textAreaBottom" fmla="*/ 3286440 h 3286080"/>
            </a:gdLst>
            <a:ahLst/>
            <a:rect l="textAreaLeft" t="textAreaTop" r="textAreaRight" b="textAreaBottom"/>
            <a:pathLst>
              <a:path w="2670" h="2076">
                <a:moveTo>
                  <a:pt x="54" y="1632"/>
                </a:moveTo>
                <a:lnTo>
                  <a:pt x="0" y="1620"/>
                </a:lnTo>
                <a:lnTo>
                  <a:pt x="30" y="1578"/>
                </a:lnTo>
                <a:lnTo>
                  <a:pt x="144" y="1578"/>
                </a:lnTo>
                <a:lnTo>
                  <a:pt x="276" y="1560"/>
                </a:lnTo>
                <a:lnTo>
                  <a:pt x="270" y="1470"/>
                </a:lnTo>
                <a:lnTo>
                  <a:pt x="240" y="1350"/>
                </a:lnTo>
                <a:lnTo>
                  <a:pt x="240" y="1194"/>
                </a:lnTo>
                <a:lnTo>
                  <a:pt x="258" y="1032"/>
                </a:lnTo>
                <a:lnTo>
                  <a:pt x="264" y="882"/>
                </a:lnTo>
                <a:lnTo>
                  <a:pt x="264" y="774"/>
                </a:lnTo>
                <a:lnTo>
                  <a:pt x="342" y="546"/>
                </a:lnTo>
                <a:lnTo>
                  <a:pt x="444" y="366"/>
                </a:lnTo>
                <a:lnTo>
                  <a:pt x="660" y="318"/>
                </a:lnTo>
                <a:lnTo>
                  <a:pt x="798" y="252"/>
                </a:lnTo>
                <a:lnTo>
                  <a:pt x="858" y="54"/>
                </a:lnTo>
                <a:lnTo>
                  <a:pt x="1260" y="0"/>
                </a:lnTo>
                <a:lnTo>
                  <a:pt x="2250" y="114"/>
                </a:lnTo>
                <a:lnTo>
                  <a:pt x="2124" y="540"/>
                </a:lnTo>
                <a:lnTo>
                  <a:pt x="2382" y="864"/>
                </a:lnTo>
                <a:lnTo>
                  <a:pt x="2646" y="1188"/>
                </a:lnTo>
                <a:lnTo>
                  <a:pt x="2670" y="1716"/>
                </a:lnTo>
                <a:lnTo>
                  <a:pt x="2526" y="1968"/>
                </a:lnTo>
                <a:lnTo>
                  <a:pt x="2286" y="2046"/>
                </a:lnTo>
                <a:lnTo>
                  <a:pt x="2202" y="2058"/>
                </a:lnTo>
                <a:lnTo>
                  <a:pt x="2130" y="2058"/>
                </a:lnTo>
                <a:lnTo>
                  <a:pt x="2088" y="2052"/>
                </a:lnTo>
                <a:lnTo>
                  <a:pt x="2016" y="2070"/>
                </a:lnTo>
                <a:lnTo>
                  <a:pt x="1962" y="2076"/>
                </a:lnTo>
                <a:lnTo>
                  <a:pt x="1884" y="2040"/>
                </a:lnTo>
                <a:lnTo>
                  <a:pt x="1842" y="2040"/>
                </a:lnTo>
                <a:lnTo>
                  <a:pt x="1806" y="2040"/>
                </a:lnTo>
                <a:lnTo>
                  <a:pt x="1764" y="2040"/>
                </a:lnTo>
                <a:lnTo>
                  <a:pt x="1728" y="2046"/>
                </a:lnTo>
                <a:lnTo>
                  <a:pt x="1590" y="2040"/>
                </a:lnTo>
                <a:lnTo>
                  <a:pt x="1482" y="2058"/>
                </a:lnTo>
                <a:lnTo>
                  <a:pt x="1428" y="2034"/>
                </a:lnTo>
                <a:lnTo>
                  <a:pt x="1386" y="2052"/>
                </a:lnTo>
                <a:lnTo>
                  <a:pt x="1338" y="2046"/>
                </a:lnTo>
                <a:lnTo>
                  <a:pt x="1200" y="2028"/>
                </a:lnTo>
                <a:lnTo>
                  <a:pt x="1122" y="2028"/>
                </a:lnTo>
                <a:cubicBezTo>
                  <a:pt x="1040" y="2034"/>
                  <a:pt x="1067" y="2046"/>
                  <a:pt x="1032" y="2028"/>
                </a:cubicBezTo>
                <a:lnTo>
                  <a:pt x="846" y="2028"/>
                </a:lnTo>
                <a:lnTo>
                  <a:pt x="498" y="2046"/>
                </a:lnTo>
                <a:lnTo>
                  <a:pt x="432" y="2028"/>
                </a:lnTo>
                <a:lnTo>
                  <a:pt x="336" y="1986"/>
                </a:lnTo>
                <a:lnTo>
                  <a:pt x="258" y="1938"/>
                </a:lnTo>
                <a:lnTo>
                  <a:pt x="180" y="1818"/>
                </a:lnTo>
                <a:lnTo>
                  <a:pt x="114" y="1734"/>
                </a:lnTo>
                <a:lnTo>
                  <a:pt x="54" y="16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5776920" y="-442800"/>
            <a:ext cx="407664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457200" y="533520"/>
            <a:ext cx="822960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ndel assumed that a dominant allele had masked the corresponding recessive allele in the F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gener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trait controlled by the recessive allele showed up in some of the F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pla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reappearance of the trait controlled by the recessive allele indicated that at some point the allele for shortness had been separated, or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egregate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 from the allele for tallnes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609120"/>
            <a:ext cx="8229600" cy="53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n each F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plant flowers and produces gametes, the two alleles segregate from each other so that each gamete carries only a single copy of each ge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refore, each F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plant produces two types of gamete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—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ose with the allele for tallness, and those with the allele for shortnes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457200" y="457200"/>
            <a:ext cx="8229600" cy="55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leles separate during gamete form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8" name="Picture 4" descr="sb4059f1"/>
          <p:cNvPicPr/>
          <p:nvPr/>
        </p:nvPicPr>
        <p:blipFill>
          <a:blip r:embed="rId1"/>
          <a:stretch/>
        </p:blipFill>
        <p:spPr>
          <a:xfrm>
            <a:off x="1981080" y="1219320"/>
            <a:ext cx="552636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ustrian monk in the mid-1800’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pent two years studying in the University of Vienn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Was heavily influenced by two professors, one of whom was Christian Dopple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se years were important since he learned about the scientific metho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gan breeding pea plants the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reat choice as they had many varieties, and had a short generation tim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"/>
          <p:cNvPicPr/>
          <p:nvPr/>
        </p:nvPicPr>
        <p:blipFill>
          <a:blip r:embed="rId2"/>
          <a:stretch/>
        </p:blipFill>
        <p:spPr>
          <a:xfrm>
            <a:off x="6553080" y="4038480"/>
            <a:ext cx="6098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533520"/>
            <a:ext cx="822960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 particular, he focused on inheritan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variances found within the pea plants are called charact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 variant on this character is a trai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ndel could control mat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productive organs are in the flowers, and each plant has both par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Pollen produced in stamen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ggs produced in carpel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2" descr=""/>
          <p:cNvPicPr/>
          <p:nvPr/>
        </p:nvPicPr>
        <p:blipFill>
          <a:blip r:embed="rId1"/>
          <a:stretch/>
        </p:blipFill>
        <p:spPr>
          <a:xfrm>
            <a:off x="1905120" y="0"/>
            <a:ext cx="5333760" cy="679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457200"/>
            <a:ext cx="8229600" cy="55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chieved cross-pollination by removing immature stamens from one plant, then transferred sperm-bearing pollen from anoth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Zygote develops into plant embryo encased in a pe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 tracked characteristics that had only two variations (such as colour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so used plants that, over many generations of self pollination, produced the same colou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lled these true-breed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ndel studied seven pea plant characters, each with two contrasting trai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 crossed plants with each of the seven contrasting characters and studied their offspr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ach original pair of plants is the P (parental) gener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offspring are called the F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 or “first filial,” gener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533520"/>
            <a:ext cx="822960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offspring of crosses between parents with different traits are called hybri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F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hybrid plants all had the trait of only one of the pare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12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8229600" cy="655308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10"/>
          <p:cNvSpPr/>
          <p:nvPr/>
        </p:nvSpPr>
        <p:spPr>
          <a:xfrm>
            <a:off x="1371600" y="533520"/>
            <a:ext cx="7456320" cy="405720"/>
          </a:xfrm>
          <a:prstGeom prst="rect">
            <a:avLst/>
          </a:prstGeom>
          <a:solidFill>
            <a:srgbClr val="4689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ndel’s F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Crosses on Pea Pl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ndel's first conclusion was that biological inheritance is determined by factors that are passed from one generation to the nex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day, scientists call the factors that determine characteristics gen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ach of the characters Mendel studied was controlled by one gene that occurred in two contrasting forms that produced different characters for each trai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different forms of a gene are called allel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ndel’s second conclusion is called the principle of dominan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0:36:19Z</dcterms:created>
  <dc:creator>ED18</dc:creator>
  <dc:description/>
  <dc:language>en-US</dc:language>
  <cp:lastModifiedBy>ED18</cp:lastModifiedBy>
  <dcterms:modified xsi:type="dcterms:W3CDTF">2011-11-08T02:49:14Z</dcterms:modified>
  <cp:revision>5</cp:revision>
  <dc:subject/>
  <dc:title>Genetics</dc:title>
</cp:coreProperties>
</file>